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E408-9B83-41C1-A140-56809114E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A785-63AC-46E6-9061-8FF1AAD01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58D0-8146-42EE-ACD9-687C6A944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4435-8586-4543-8EA4-D905501B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7D90-C372-4CA4-82D5-0F8DBED3B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CFC9-A30B-4906-A74A-36DC71810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E6B6-8616-4FEB-BBD3-1AEE6DAF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691A-5520-457F-B41C-50941703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C2F3-00DB-420E-8B8D-BC748A08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31FC-E711-4374-92EA-5A83DE6F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FE6D-9C8A-4866-B655-31F1DA5D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A605-4505-4098-B756-5CFBCCF5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C293-50E8-41FD-AEBC-956AF564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9D86-5284-4CF6-81E0-D545E372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DFD9-2AC9-4EBD-923B-50E641B00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iara Zapa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9051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 mi nombre es Michelle. Yo tengo catorce Años. Yo vivo e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eva York. Yo tengo dos hermanas. Yo soy Simpatica y divertid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60480" y="5486400"/>
            <a:ext cx="671400" cy="1011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5334120"/>
            <a:ext cx="536760" cy="78084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495288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616896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228600" y="66420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4864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990720" y="6095880"/>
            <a:ext cx="480960" cy="3812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866520" y="659124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1-30T18:26:54Z</dcterms:modified>
  <cp:revision>103</cp:revision>
  <dc:subject/>
  <dc:title>Profile</dc:title>
</cp:coreProperties>
</file>